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6B59-18E3-4BB0-9FFD-28BA59B234B8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DE0A-6C91-417E-B903-7B97D2426EA6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2B66-D9C2-41B9-AF47-698A58F5939C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14000" y="299880"/>
            <a:ext cx="624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Data Formats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Building understandable spreadsheets; Version 1.0, Reviewed --/--/----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Local Data Management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Building understandable spreadsheet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Jeff Arnfiel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Climatic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28564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ok, R. B., R. J. Olson, P. Kanciruk, L. A. Hook. 2001 “Best Practices for Preparing Ecological Data Sets to Share and Archive.” Bulletin of the Ecological Society of America 82(2):138-141. http://www.jstor.org/stable/20168543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eong, K. “Seven deadly sins of spreadsheet use in business: Excel best practices.” http://production-scheduling.com/seven-deadly-spreadsheet-sins/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GCMD science and associated directory keywords http://gcmd.nasa.gov/Resources/valids/archives/keyword_list.html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F Metadata Convention – CF Standard Names.     http://cf-pcmdi.llnl.gov/documents/cf-standard-names/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voiding proprietary forma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File naming conventio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Maintaining contemporaneous document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lanning for longer term preserv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ork with your archive early and ofte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preadsheets are amazingly flexible, and are commonly used for data collection, analysis and managemen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preadsheets are seldom self-documenting, and seldom well-document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ubtle (and not so subtle) errors are easily introduced during entry, manipulation and analysi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preadsheet conventions – often ad hoc and evolutionary – may change or be applied inconsistentl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preadsheet file formats are proprietary and thus generally unacceptable as long term archival purpos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ior planning prevents pitfall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early document all parameters, conventions, algorithms and assumptio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 descriptive, consistent nam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 optimal and consistent layouts and forma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eserve raw data and minimize duplic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Validate data and formula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Keep formulae as simple and comprehensible as possibl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 some method of version control to manage chang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velop a strategy for archiving the content and logic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lanning and documenting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rm follows function and conten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sources, volume, diversity of content and planned transformations may require multiple files or director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Your data will often suggest natural naming conventions and layou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ocument your conventions as they’re establish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vise documentation contemporaneously, not “after the fact”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is work is also the basis for end-user or reviewer document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hat should you document? Everything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import, manipulation, QC procedures, special flags and encod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ming conventions, layouts, headings, units and abbrevi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824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oes TEMP mean “temporary,” “air temperature at time of observation,” or 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ormulae and constan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at’s in a name?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fine naming conventions for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rectory hierarchies (if the scope of your project requires them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iles, including different versions if necessar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lumn and row labels, and individual tabs on multi-tab spreadshee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ames should clearly and uniquely describe conten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heet1, Sheet2 and Sheet3 do not convey much useful information!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table, consistent names can be referenced and process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f dates form part of a name, use a sortable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yyyymmdd (20110825) is easier to process and validate automatically than 25Aug2011, or the unthinkable 25Aug11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nsider standard abbreviations or keywords, if they exis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Layout and formatting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 appropriate data typ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e/time data type permits sorting and calculations 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f numeric identifiers may have leading 0s, format as tex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ormat numeric values with the appropriate number of decimal plac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 separate columns to denote special cases rather than relying solely upon even well-documented color codin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lor coded conditions cannot readily be sorted and aggregat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lor coding is lost entirely if data are exported as ASCII tex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clude enough detail to make the data self-describin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tem identifier, date, time, parameter name, units, value, quality fla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ake the spreadsheet self-contained by adding a tab with legend details, column definitions and formula descriptio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handling and formulae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on’t combine multiple data layouts in a single shee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f sheets have common content, identical layouts and headings increase clarity and simplify linking for analysi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mplify updates by separating data and analys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f data are propagated across sheets or manually manipulated, refreshing data can be a daunting and error-prone task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reeze heading rows and columns to provide context as you work deep in the shee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lacing totals, counts and other summary statistics above the column headers ensures they are always visibl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eaders, footers and repeating headings improve printou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Best practi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320" y="2323800"/>
            <a:ext cx="11861640" cy="659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ard code nothing! 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Use a separate “values and assumptions” tab or area for constants and conversion factor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Use named ranges and cells rather than row/column referenc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2*CubicFtToGallonConvertFactor is clearer than C2*Assumptions!$B$3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hen sorting rows or copying formulae, be sure cell references do not change unintentionall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ost spreadsheets have data validation tools. Use them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f using spreadsheet for data entry, build entry validation rul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unts, averages, max/mins, standard deviations, value lookups and custom formulae provide more sophisticated QC check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ivot tables are useful for QC and summariz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Version control and archiving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Versioning and change managemen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eriodic, dated backups are essentia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imple version control is possible via a naming convention for saving incremental copies, along with a log of significant changes 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Version control systems, like Subversion, are powerful but  complex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ow will you archive for long-term availability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Gear your approach to your data, and to your archive’s requiremen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ave content as delimited ASCII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824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Must save each tab separatel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03824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ocument formulae separately, since results rather than formulae are sav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03824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asy cheat: &lt;ctrl&gt;~ will reveal formulae, which can then be exported intact. However, references to other sheets will not be readily resolv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vert to XM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inting as PDF preserves appearance, but complicates future reus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Jeff Arnfield</dc:creator>
  <dc:description/>
  <dc:language>en-US</dc:language>
  <cp:lastModifiedBy>Jeff Arnfield</cp:lastModifiedBy>
  <dcterms:modified xsi:type="dcterms:W3CDTF">2011-10-07T19:17:50Z</dcterms:modified>
  <cp:revision>97</cp:revision>
  <dc:subject/>
  <dc:title>ESIP Federation 101</dc:title>
</cp:coreProperties>
</file>